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F7B-3CB0-4291-830E-B6AA72B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572-5929-4407-A22D-E7133C1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DE8E5-1473-4E1B-BFF6-A410202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D845B-920A-481B-B33E-085F17B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F0258-1F44-426A-966B-B3AD8C6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F84A4-9B4A-4917-A8CE-7BD92D3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0A9EC-60C0-418C-8E51-692F095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90169-3243-4C13-BBCF-BB9CE62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30CCB-6AB6-4014-AFE6-AD84964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66C29-59BC-4055-A057-14007983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D5C6A-1AB5-4840-B6F6-5E45995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82B55-2355-496B-BEA4-A9D583D8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A4C-9CAF-44CE-B8D1-0D5C0026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C17C5-BFB5-4A24-A3BB-07DDA1F8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A243-8436-4E13-B107-D5A03F5F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77C86-0473-43C6-99C4-882EABC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E2D7C-B684-436C-8813-3A3C404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3D5C4-03F5-4AE6-9072-220B33E3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C95DF-A67A-4ADC-ACD9-3611FC9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65C35-C3AB-444D-BCE2-F12279F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28FC5-20BD-470A-A386-482A4B4A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E6828-6B1A-4F32-868B-C617B330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16AC3-EE93-4013-916D-8ACC87D2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27C-8918-44B7-9A7F-3212790A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AB532-EBAB-4F37-9ABA-2355ACF1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4AFB-5FEC-4027-9A00-FFC9BCB8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5AC3-946F-4999-BE00-EDB8D515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37BE0-132C-4799-A24F-D3C14FE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AD75-2F15-426D-995F-5E7708D9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A644D-8105-42AA-AC00-507A0F1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8B71B-B035-414E-8A8F-A1EC44F7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A74D2-188E-4C59-B5DA-F5158A2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3F42F-0196-4CF9-9716-0E589029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3E11-230F-460B-A61E-6F27F256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9721-67C4-461F-9305-61CE77A6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D484C-7524-46CA-8FCE-E6B02A6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30DDC-A1EB-47D6-ADA1-DE01AFC4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44AEF-F73C-4A93-9EDA-4ACC5AE7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50D9B-D624-44B3-B095-505E90DA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F4ED1-343E-4A33-B430-135A1FB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3E12C-C5DE-44E7-8143-BA27FA6E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5196D-3D3F-40A4-AE85-10C79E1B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D62E-032F-4AAD-8CBD-3189A05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25EA6-4C54-430C-9A98-9537114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72425-CE62-4E06-889A-33FA8F99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5287-95CF-4162-A890-57C0273E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3F861-7385-4E06-856F-01F3C7AF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5DE63-701E-4561-A751-249D2273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3311C-F99D-4EA4-990F-C0174818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8C611-1D4C-42CE-87F0-5ED3FA25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B6E88-FA58-40AC-ACBC-0FD8B094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6BAC3-8399-4C78-B2C2-5BF7BF5E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159AB-A310-45D3-967E-D60579D2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9A1B6-0172-424A-A3E7-72FE25D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A86AB-7155-4501-93F6-FE93EDF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7DD8E-B564-4BC7-BCAD-87AC21BC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828D-EC8A-4E88-AB6E-BF7DEDE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88D8F-223E-4FC7-A458-5AD7B01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8615E-4213-48CF-9EE8-EF197C39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C8DBE-D899-4143-BCAF-0CF2618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D9AC7-075B-4E16-BF7B-DDD2810C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40054-09D6-4B16-9C46-10DDA203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8420B-A736-46A2-AAAB-9BFCB1F6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1949EB-8B0F-4B01-A33F-151DCD84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4561E-F5BD-4DFA-9853-A12CFD15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878F7-BEAA-44AC-848A-8654FE4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0E92C-5191-4675-A392-A16D7378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83F-2DA6-4E24-AD60-9240B3CB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C4E97-E7BA-44B1-B295-0130B1D5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D57A6-D616-4390-829C-75A0BF63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98220-5ED6-4FBE-B79A-61D801BE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86B88-D43A-47A2-AB42-2AD1423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20DA9-7411-4492-BF1B-DD1F200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70116-C242-4868-A9C5-6AF67BD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1F2FB-54DB-4573-AFB2-5341D0B4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E14DB-DE08-4DDF-87F0-70C3CF6E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6DA17-2AE7-488C-B89D-E866BCB4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EE16E-149E-45D1-9E7A-70819FB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7479-D88B-4B7A-8A12-781A1240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F9082-C179-4DBF-9494-DB8C4F5E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B2D8E-48D0-4038-869D-60060D2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E18E7-A9BD-4DD5-9466-695E6C2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6FD7D-BD78-48C6-B7A8-ACCADC73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D2143-B04B-487A-BDDA-6A568007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8871D-BEFB-48EC-BA1C-AD9111C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9BB33-6D72-4F1D-B706-1736D60D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5BE63-EE11-4D6A-9C99-53915D2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49096-82D2-42DF-973A-CF0A370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CE303-4EEF-4C20-9B7E-DFE6E20F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8365-1152-4FBB-ADB6-C0723184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86CCD-A6D5-4C1F-B1C2-36A39E6D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8AB67-8E25-4E1E-8635-43F160EE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0268B-AB40-4D55-98B5-A7A93274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6080A-B76A-401F-B5A1-AF143AD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6CCB25-BAD7-499A-AF16-D0F52067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815DC-805C-4233-8BAB-F9C0BA38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60922C-790E-4297-BCFB-10B2997D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0C50D-1F19-40FA-A3A0-B34F2AF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737BC-133A-4FF4-8C86-57E2C0C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43D0F-8DE9-4300-AB42-B2E9518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106-ABDD-43C6-9135-D66F5AE6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9848F-A4A7-4FE3-B471-BBEF0D36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11FBF-B114-4AA5-87DA-DEBBC902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C27B1-1EA2-4189-91E2-A70CF94E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C42BD-89FB-437A-916E-DBACE3D7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48D5B-9114-4060-B262-18ED972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FBF0F-8928-4427-BEBA-B1B1E400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C99E3-17AD-4252-8CD0-69B9065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A89AC-D114-43E9-8A82-71CCA22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3ED0B-4E94-46F5-8115-868CA91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E1BC5-59BE-4D38-AFDD-FDAD22B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6FF-E068-47C0-A548-8E224EDA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548A-C373-4506-B646-8600AE0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F3C28-02E6-4A56-A88D-F1EB9DA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A53AC-740B-4D9B-8559-31C7C67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9C45D-FAAE-4EAD-80B6-F2FA117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2DE5E-1F36-420F-A8B6-E77004B4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AB5D2-7FE4-448A-B4E2-B0232340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0DC01-0FD6-4811-A980-617446ED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EF5212-7C8C-49EF-8536-E92FD18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A9FDE-4FFB-4687-A2FA-80052E70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54C66-3A76-4FB2-82FE-7EEE84E8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D0BCB-9BDD-48F9-A30C-75915A50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E6C-5BAC-4F86-9035-B2D4E67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AF793-4D3D-4CC6-B817-394C29B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EA03B-95C4-42C9-A6C2-469B41DA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85452-A6D5-4BEB-BFC3-D1268C3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A6AF2-51FB-491C-8FE4-28B6444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BE355-C943-4BCB-8288-91ABDAE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65881-30EB-4EA7-891B-6CEF8077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4F659-E7F7-49AF-ACA4-15F141AD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453C1-1A1A-4B3D-AE6B-9600B1F1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828DA-433E-4282-9300-5E14B09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CCE3A-5D36-4C3F-88A0-BB78C67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66D4-8B1C-4174-A41D-54C264F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90AB2-FD5A-47DB-BA0D-731903C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4696D-1ACA-440F-A96F-81C5A5A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AE02B7-9459-467E-8445-F96D4703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C7520-D020-4500-88D8-9243217B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C8721-B604-474C-9A9C-2AD8F9E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637A1-4E5E-4C39-93CD-6BEFC51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17784-6416-4594-8042-57F307DC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F9D2F-343F-4129-B81B-435C56D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A54495-2A64-4990-BE3E-3E794505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B10EA-89A3-4311-B221-356481D2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1188-7C79-4F5A-B9F4-5EA4D791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F34F9-FE1B-4CB9-8DA6-182F78B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9A029-F345-42BF-BBF3-19EDABE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9CCC3-A61D-459E-8A36-CE8067EC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F760F-B190-4C5D-8E36-C85D099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D06A1-7B02-4977-8DD4-E13ED952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39D17-6B40-4F21-9867-1A72232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E31B55-9BA3-4388-904E-1AA647C9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9E4949-DA07-4BEE-A4B4-8E915D4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5C2D4-3276-498E-8A53-A263FA1C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FD9950-1429-4264-8D5B-4DE1CF52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81D0-E190-487D-85AC-19506736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48988D-FEBF-4FCB-9BDC-CB5E915B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D96CF-CCDA-4D57-9D29-94EC8C10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D8B8E-4AD2-4B17-8208-4D2F4CE8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6FA83B-B7E3-4FC4-8CB0-A03E40C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A0B52-0A18-40DF-A8D1-6EF5185B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AF09F-A29A-4F33-AAEB-7813CD2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2C586-F734-4D98-93EA-392290A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8AC3F-495E-428F-B2CD-9C726E1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8C039-1B39-4410-8CCC-ABB79037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1CD868-1554-4C54-9C52-69F1FE8D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9606-E7DC-47F0-9285-EF114D1B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47F758-389A-4C25-9EC1-F5A1EE7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E54E2E-5B8C-403E-AD09-96F6A4EE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8DE8C-EA6C-4F50-9CCF-209B7F99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3C8D1-6014-4C3F-90B0-E2E0665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07B6-DDC5-4C89-AFC4-82EA50F6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3C9F-0437-4FA0-B5D3-14B2DA9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F1CF-8EC7-4EEF-8FF7-06C6CA4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2E2-309C-4A03-BC4D-339F22B3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942B-7AA8-4A32-BD42-3FC2B118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BE2E-5C4C-44AC-BAB4-E862CFA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ECC2-FC0E-4BE8-BC21-5AE3E70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A25C-D2E2-4AFB-8381-D7A93C97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FAFD-728D-43A7-B3E6-9D52E19A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72D2-ACEA-455F-A8BC-562466E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F6A4-B3F0-4CE9-ABCA-8B23C94D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2B3C-AE55-456B-8FD0-C4C846AC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BD1B-D3EE-4F92-A324-E8158D7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47D4-9E89-4B9A-A983-C3431AF0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86A-676A-45AA-855F-DF5DC9A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0FD8-95FB-4586-9161-D1D15C1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A217-3BF3-4ADC-ABAD-DBCFC9D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801F-B0C5-44B9-ADE5-78DAF7C7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7B0B-4133-47F2-9E9B-93B841D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3F8E-FA78-429B-B24A-1A2046B2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92B9-4BA7-4C9B-96F2-8E47518E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3CF5-4BCD-4D7D-B895-22BD8BC8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7381E-C8B5-434E-85B5-C19B0EEF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10E9-93F5-4FE7-964A-0C079981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4AA6-58EE-4D22-9124-B5E7F9D0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536-365D-462A-B55D-6D468A0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D93F1-ABBC-4A14-84BD-B39B6E91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D55F-2EFB-4790-89EF-781CE3E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7E91-BE1F-4F52-A88A-7865777E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1547-8665-450C-A3AF-A2269C47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61E3-FDF3-4D83-8FD2-94ACB8AF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FED1-C49C-4D3F-846A-ACC8622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9DFCA-42E4-4856-8526-E9F6BDD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9C2A-64B0-4CCD-BE88-D5E3AF9B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A4AA-404C-4ABD-8DD1-7DE0B60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A9A2-3C14-48F2-BF43-35E414AD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EC4-6B75-4D85-88AE-F1E902F7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735F-6EF2-4F65-9974-151D3F3E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34A06-E680-44E2-8869-E034250D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641EE-2281-49FA-8402-C3B4495F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D082-BE54-4E8F-A8A4-6BE75A61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98B78-AD1C-4C64-B9FE-EA5944C7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C22C-E41C-4BB1-AE84-6D9C12B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3189-727B-4BBA-9ADA-0C188C25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F766-D849-45FC-B004-2CAA59B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8FE8-17EA-422C-A70E-A5F2112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386A-9396-4F53-A4EA-F9DD2BF6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D4C-1349-49E3-A0DF-F0DD7C54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4550-6370-43CE-9906-6C05F6D9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0499-0F4A-4A7E-A78E-031C3682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FC44B-B14A-4346-B194-C684A50E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7612-4DE9-4BF2-8EFE-6379BE06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24348-0DC6-4F40-B818-D31DFA0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E2F24-5F93-45A4-A5D3-7C08C3CA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78F35-27EA-49E3-AE44-C8C7C92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F403C-40F5-45C4-AB08-8AFD669B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0A24-6C95-409E-991F-27B908AB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4BFF2-3808-4657-8F25-5D55971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66D-2E42-4BF8-AC7A-458C725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6DB6-7ACB-414E-957E-A7A968AC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1BB4-7D2B-4EEB-9FDA-A05419A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A1526-A2A0-4CCC-A31A-0E3BE022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F9A2-1AB9-4AE7-8997-D65828C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5B521-7EE0-4CBF-867F-8EFE6BCC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DA4D4-B886-43C3-A12B-AB94158C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92280-D29A-4DA1-92D9-8352E52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113AA-D1EA-44CC-B8BE-33A0FC9F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572C-8C85-49F9-A6CD-033F6C5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5D5C2-0498-4ED5-BB93-450A1A3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7A-F1FB-48F8-9A93-5F1EF1E6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477A5-79DC-4BA2-B018-2FB7BDC1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89C97-A6F4-4AC5-8AA6-339E53F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D0CC-D220-46A3-B7EA-55C4BA8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D3BB-B5D1-4546-966B-FE751467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BAD6-E35E-4C3C-97C4-D09A4B3B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3161-D7C5-438A-ABFF-73E8D52C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877F-A674-47A2-AF9C-41E3037D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D3787-C2FF-4FE7-8329-536653E3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D72E5-2046-4694-BA16-F4F6DC4F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41FF-94A4-4772-98BE-9AB79037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EE9C-D697-41DE-9518-C0848BD9C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7357-42AD-4A7D-B856-273FECC018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5F2B-B59E-40AF-9E4D-0620709CA3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EB49-0A52-449D-AA14-B3447EA95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F81-68C9-4045-B124-07FABAF7E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89A0-341E-4AF0-B61B-09A444858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1D37-E802-40CE-8FE4-277F201BF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BF46-4DA8-473F-BA0B-C0ACB00ED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F31-90C5-4523-976E-3EC279B6C7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76DF-6C8A-4524-B2E6-BBAEB9A76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6DE9-B795-475B-AD9D-C89E2B6A4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008-4FFD-4E65-BCD1-355CE0655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48D-FF59-4E18-BA54-3E566FEB31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EC40-B9A5-4B7E-BAE4-5BEC13C9DC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D9C-0187-4686-80F6-524802C37D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C6F-1D70-4D3C-A2B9-6933D115E3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E1E-3FAF-46E7-8F1D-3049303F0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30A-DA0E-4CCA-93C4-F00A6F559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A91-D1EA-403E-8F10-33F13C4283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E3B-123F-4A2A-89A8-7A5E75766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1475-79EA-4222-8E10-5BAFC9FAD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E275-4B2F-4E87-A507-5220EBCFB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217-CE9F-41E2-93E0-018D421922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8D4D-1BAF-44EF-8B7D-1F51E2D70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4FD-3C6E-45B3-9CD4-EEC2CFD38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0CEC-3013-43D3-A695-0119B6D8D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5E09-47D0-4A06-819C-080676870D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FBAA-60AE-46C0-8F5D-268426A3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325-A7DD-44B5-9A3B-2B468499E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2D4-3DAB-4818-856F-6FCC964E4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3DC6-5878-492D-A51D-BFB5422E9D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85A-BC56-4B7A-A9E0-97064676B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240-EB05-4F49-8E60-7DD9AD399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EA68-C161-4F09-8022-9F5A75A04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353B-6D89-44DF-AA3E-BE95FD851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EAB9-098A-422E-83C9-8CAD859F8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15F4-70F8-49C1-BDC5-FDEAD81C9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4EA1-A16D-48D8-A4A1-70357FAEA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31CF-59CE-4372-B285-5675E3259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9CE-910D-486E-AE09-EB396894DA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238480" y="3105000"/>
            <a:ext cx="46670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47840" y="1581120"/>
            <a:ext cx="8248320" cy="369576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857160" y="1643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480960" y="1300320"/>
            <a:ext cx="818208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1248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500040" y="828720"/>
            <a:ext cx="8305920" cy="6029280"/>
          </a:xfrm>
          <a:prstGeom prst="rect">
            <a:avLst/>
          </a:prstGeom>
          <a:ln w="0">
            <a:noFill/>
          </a:ln>
        </p:spPr>
      </p:pic>
      <p:sp>
        <p:nvSpPr>
          <p:cNvPr id="1050" name="矩形 2"/>
          <p:cNvSpPr/>
          <p:nvPr/>
        </p:nvSpPr>
        <p:spPr>
          <a:xfrm>
            <a:off x="928800" y="2286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3"/>
          <p:cNvSpPr/>
          <p:nvPr/>
        </p:nvSpPr>
        <p:spPr>
          <a:xfrm>
            <a:off x="1000080" y="5072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61880" y="1338120"/>
            <a:ext cx="8220240" cy="4181760"/>
          </a:xfrm>
          <a:prstGeom prst="rect">
            <a:avLst/>
          </a:prstGeom>
          <a:ln w="0">
            <a:noFill/>
          </a:ln>
        </p:spPr>
      </p:pic>
      <p:sp>
        <p:nvSpPr>
          <p:cNvPr id="1053" name="矩形 2"/>
          <p:cNvSpPr/>
          <p:nvPr/>
        </p:nvSpPr>
        <p:spPr>
          <a:xfrm>
            <a:off x="857160" y="1428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3"/>
          <p:cNvSpPr/>
          <p:nvPr/>
        </p:nvSpPr>
        <p:spPr>
          <a:xfrm>
            <a:off x="857160" y="4214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52520" y="2048040"/>
            <a:ext cx="8238960" cy="276192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928800" y="2071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419040" y="824040"/>
            <a:ext cx="83059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423720" y="1800360"/>
            <a:ext cx="829656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480960" y="1038240"/>
            <a:ext cx="8182080" cy="4781520"/>
          </a:xfrm>
          <a:prstGeom prst="rect">
            <a:avLst/>
          </a:prstGeom>
          <a:ln w="0">
            <a:noFill/>
          </a:ln>
        </p:spPr>
      </p:pic>
      <p:sp>
        <p:nvSpPr>
          <p:cNvPr id="1060" name="矩形 2"/>
          <p:cNvSpPr/>
          <p:nvPr/>
        </p:nvSpPr>
        <p:spPr>
          <a:xfrm>
            <a:off x="4857840" y="1928880"/>
            <a:ext cx="14288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3"/>
          <p:cNvSpPr/>
          <p:nvPr/>
        </p:nvSpPr>
        <p:spPr>
          <a:xfrm>
            <a:off x="1428840" y="2571840"/>
            <a:ext cx="25718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4"/>
          <p:cNvSpPr/>
          <p:nvPr/>
        </p:nvSpPr>
        <p:spPr>
          <a:xfrm>
            <a:off x="5572080" y="3286080"/>
            <a:ext cx="11430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"/>
          <p:cNvSpPr/>
          <p:nvPr/>
        </p:nvSpPr>
        <p:spPr>
          <a:xfrm>
            <a:off x="4932360" y="4008600"/>
            <a:ext cx="2571840" cy="369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"/>
          <p:cNvSpPr/>
          <p:nvPr/>
        </p:nvSpPr>
        <p:spPr>
          <a:xfrm>
            <a:off x="1500120" y="5143680"/>
            <a:ext cx="4000680" cy="42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433440" y="738360"/>
            <a:ext cx="8277120" cy="5381280"/>
          </a:xfrm>
          <a:prstGeom prst="rect">
            <a:avLst/>
          </a:prstGeom>
          <a:ln w="0">
            <a:noFill/>
          </a:ln>
        </p:spPr>
      </p:pic>
      <p:sp>
        <p:nvSpPr>
          <p:cNvPr id="1066" name="矩形 2"/>
          <p:cNvSpPr/>
          <p:nvPr/>
        </p:nvSpPr>
        <p:spPr>
          <a:xfrm>
            <a:off x="3214800" y="4249800"/>
            <a:ext cx="1785960" cy="390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2440080" y="5194440"/>
            <a:ext cx="1143000" cy="369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8258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"/>
          <p:cNvPicPr/>
          <p:nvPr/>
        </p:nvPicPr>
        <p:blipFill>
          <a:blip r:embed="rId1"/>
          <a:stretch/>
        </p:blipFill>
        <p:spPr>
          <a:xfrm>
            <a:off x="409680" y="1347840"/>
            <a:ext cx="8324640" cy="4162320"/>
          </a:xfrm>
          <a:prstGeom prst="rect">
            <a:avLst/>
          </a:prstGeom>
          <a:ln w="0">
            <a:noFill/>
          </a:ln>
        </p:spPr>
      </p:pic>
      <p:sp>
        <p:nvSpPr>
          <p:cNvPr id="1069" name="矩形 2"/>
          <p:cNvSpPr/>
          <p:nvPr/>
        </p:nvSpPr>
        <p:spPr>
          <a:xfrm>
            <a:off x="4583160" y="2749680"/>
            <a:ext cx="14288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3"/>
          <p:cNvSpPr/>
          <p:nvPr/>
        </p:nvSpPr>
        <p:spPr>
          <a:xfrm>
            <a:off x="7858080" y="3214800"/>
            <a:ext cx="7146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>
            <a:off x="603360" y="3692520"/>
            <a:ext cx="142848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5"/>
          <p:cNvSpPr/>
          <p:nvPr/>
        </p:nvSpPr>
        <p:spPr>
          <a:xfrm>
            <a:off x="4071960" y="4572000"/>
            <a:ext cx="14288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10520" cy="5572080"/>
          </a:xfrm>
          <a:prstGeom prst="rect">
            <a:avLst/>
          </a:prstGeom>
          <a:ln w="0">
            <a:noFill/>
          </a:ln>
        </p:spPr>
      </p:pic>
      <p:sp>
        <p:nvSpPr>
          <p:cNvPr id="1074" name="矩形 2"/>
          <p:cNvSpPr/>
          <p:nvPr/>
        </p:nvSpPr>
        <p:spPr>
          <a:xfrm>
            <a:off x="5226120" y="1711440"/>
            <a:ext cx="107136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"/>
          <p:cNvSpPr/>
          <p:nvPr/>
        </p:nvSpPr>
        <p:spPr>
          <a:xfrm>
            <a:off x="2500200" y="2643120"/>
            <a:ext cx="1643040" cy="385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4"/>
          <p:cNvSpPr/>
          <p:nvPr/>
        </p:nvSpPr>
        <p:spPr>
          <a:xfrm>
            <a:off x="7640640" y="3097080"/>
            <a:ext cx="92880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5"/>
          <p:cNvSpPr/>
          <p:nvPr/>
        </p:nvSpPr>
        <p:spPr>
          <a:xfrm>
            <a:off x="428760" y="3571920"/>
            <a:ext cx="5713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6"/>
          <p:cNvSpPr/>
          <p:nvPr/>
        </p:nvSpPr>
        <p:spPr>
          <a:xfrm>
            <a:off x="2071800" y="4500720"/>
            <a:ext cx="242892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7"/>
          <p:cNvSpPr/>
          <p:nvPr/>
        </p:nvSpPr>
        <p:spPr>
          <a:xfrm>
            <a:off x="4714920" y="5429160"/>
            <a:ext cx="178596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28760" y="833400"/>
            <a:ext cx="82864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466560" y="1576440"/>
            <a:ext cx="8210880" cy="37051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928800" y="15717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928800" y="2071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00080" y="292896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928800" y="350028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928800" y="392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928800" y="4857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480960" y="2033640"/>
            <a:ext cx="8182080" cy="279072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928800" y="20718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"/>
          <p:cNvSpPr/>
          <p:nvPr/>
        </p:nvSpPr>
        <p:spPr>
          <a:xfrm>
            <a:off x="85716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857160" y="3000240"/>
            <a:ext cx="5000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"/>
          <p:cNvSpPr/>
          <p:nvPr/>
        </p:nvSpPr>
        <p:spPr>
          <a:xfrm>
            <a:off x="857160" y="40006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57200" y="833400"/>
            <a:ext cx="82296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57200" y="133344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24640" cy="557244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785880" y="7858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857160" y="35719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61880" y="1095480"/>
            <a:ext cx="8220240" cy="46670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785880" y="1143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3"/>
          <p:cNvSpPr/>
          <p:nvPr/>
        </p:nvSpPr>
        <p:spPr>
          <a:xfrm>
            <a:off x="857160" y="39290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